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FE6B-E0DC-4FB1-BD9A-B427D78DD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0D67-4903-4014-AFA5-C72F0470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E076-AF42-48E5-96B8-C1C779401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B342-49B4-4DA2-A60B-D66CDC605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37A1-67EF-4AD2-A98F-54518F77A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B7DF-7B2D-4971-914E-25FBB118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E1B9-038A-4EDD-AF08-B0918099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863A-0782-45E5-B699-E060C061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C3C3-8DF9-4208-B575-735E5787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647B-DD86-4781-AB5E-2606F6C2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9D4D-C410-4977-8B26-0E40D6CD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C543-5B80-47D6-8450-1D0555DC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59D0-E301-4B64-9D2E-A4B36E37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CFFC-894F-4D88-8A24-A3B4979A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B1A3-9EB7-4385-AE58-468D4E58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BB05-F5EC-47A3-B505-82ACED660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CE9A-4BA1-40A5-8A72-C0632758A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5649-C528-4573-8E7E-9B88652C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E304-7825-4412-BAC4-C05E9966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3FDD-48E4-4DA7-9E7F-353BC904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2210-CC39-45AD-9B53-8446C18B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79C8-3CB9-43A7-9A93-96770C73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080E-835A-4BAD-90AC-97714CB4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3F6B-492A-43B6-868F-BCB5E831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6D5C-BB16-4846-A702-D00237000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EE9B-A459-44B8-ACB1-AD8737976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21304"/>
                </a:solidFill>
                <a:latin typeface="Times New Roman"/>
              </a:rPr>
              <a:t>Conceptualizing Curriculum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oking at the instructional and the programmatic aspects of the curricul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2895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t is important to distinguish between types of knowing and how much of what kind of learning is appropriate for a given situa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5049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e need to think of the stuff of curriculum as skills to be learned, as well as facts, and you will see things to do as a teacher that might not have occurred to you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ypes of Learn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udy,Smith, and Burne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ic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oci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pre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om’s Taxonomy of Education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ehe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itehead – Rhythm of Educa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mance – feelings of excitement, enjoyment – Elementary school is the stage of ro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ision – getting to know the subject better – studying in detail – Secondary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ization – expanding the knowledge for other use – College and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runne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posed a “spiral curriculum” –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urriculum should be organized in a spiral manner so that students continually build upon what they have already learn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tegrated Curriculu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rriculum should be sequential and interrela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: only in school is math an isolated set of problems – in real life there are economic, engineering, and shopping and cooking probl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7T01:24:36Z</dcterms:created>
  <dc:creator>User</dc:creator>
  <dc:description/>
  <dc:language>en-US</dc:language>
  <cp:lastModifiedBy>Carlette Hardin</cp:lastModifiedBy>
  <dcterms:modified xsi:type="dcterms:W3CDTF">2005-10-09T00:51:54Z</dcterms:modified>
  <cp:revision>3</cp:revision>
  <dc:subject/>
  <dc:title>Conceptualizing Curriculum </dc:title>
</cp:coreProperties>
</file>